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1EF-74A8-4643-BE6D-7096A483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7AE-675C-45DD-A672-FFC476DD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0BF-F8A2-45C0-93B6-A1C5AD3D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24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368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24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368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0591-E34C-4587-A5F5-FA64FA7E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66F6-3383-4CC0-8938-0768F5CA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4944-1CB3-4F34-8D41-E415F507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1F49-504A-40E1-8BF6-1048CDD8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944D-EF7D-45C2-AF4D-918E7242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14DE-2C27-4DC7-B8A4-EE515690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160" y="445680"/>
            <a:ext cx="8148600" cy="54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6461-44D3-4B39-9001-A819B33B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D281-5AAA-4E01-9E6B-A67AE332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5AC-D6C9-4FFA-9391-1603F89F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3D43-B444-4D12-A61A-F510DE0C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97C1-851D-4272-B55B-76FC7714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BDB9-1C6C-4FD4-A9D1-D070CF3C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D9D3-60BB-4BD5-8CE6-28ED6ACE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24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3680" y="182844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16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24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3680" y="3935520"/>
            <a:ext cx="262368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C2FE-3431-4329-9156-B829E4CE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25B-45FE-4ACE-B2C3-73F7F902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D86F-6F5D-4DAB-A548-AAA1EA6F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534-3DDC-4C92-945B-2AE4794F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445680"/>
            <a:ext cx="8148600" cy="54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F78-0789-4EE0-B110-9E9D447F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4D3-48A0-4AB7-8D36-2F7186F2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8440" y="393552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2C6-7422-4ADD-A8F5-689AE0FF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8440" y="1828440"/>
            <a:ext cx="39762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35520"/>
            <a:ext cx="814860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37F-787E-43BA-A7E3-EDA7FD03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18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45680"/>
            <a:ext cx="81486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160" y="1828440"/>
            <a:ext cx="8148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23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56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B3168-E6BB-462F-8D5B-41225E18200F}" type="slidenum">
              <a:rPr b="0" lang="sv-FI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18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836280"/>
            <a:ext cx="67770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494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sv-FI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1160" y="6248520"/>
            <a:ext cx="28828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v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5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sv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550615-DC4E-4264-91CA-869EC9934607}" type="slidenum">
              <a:rPr b="0" lang="sv-FI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6640"/>
            <a:ext cx="6781680" cy="25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6200" spc="-1" strike="noStrike">
                <a:solidFill>
                  <a:srgbClr val="ffffff"/>
                </a:solidFill>
                <a:latin typeface="Times New Roman"/>
              </a:rPr>
              <a:t>IDEOLOGIERNAS TID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000" spc="-1" strike="noStrike">
                <a:solidFill>
                  <a:srgbClr val="ffffff"/>
                </a:solidFill>
                <a:latin typeface="Arial"/>
              </a:rPr>
              <a:t>FÖLJ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LIBERALISM: ökad rösträtt (ex. FRA &amp; SB se s. 26-31) + mera rättigheter åt folke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7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NATIONALISM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minoriteterna vaknar (kräver självständighet) </a:t>
            </a:r>
            <a:r>
              <a:rPr b="0" lang="sv-FI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 orolighe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Europakartan ritas om = </a:t>
            </a:r>
            <a:r>
              <a:rPr b="0" lang="sv-FI" sz="2600" spc="-1" strike="noStrike" u="sng">
                <a:solidFill>
                  <a:srgbClr val="ffffff"/>
                </a:solidFill>
                <a:uFillTx/>
                <a:latin typeface="Arial"/>
              </a:rPr>
              <a:t>nya länder</a:t>
            </a: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 (s. 32-37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0">
              <a:spcBef>
                <a:spcPts val="64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0">
              <a:spcBef>
                <a:spcPts val="64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REAKTIONEN: balans 1815-1848 = inga reformer (kungarna sitter på locket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74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74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39640" y="3068640"/>
            <a:ext cx="3886200" cy="3314520"/>
            <a:chOff x="539640" y="3068640"/>
            <a:chExt cx="3886200" cy="331452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539640" y="3243240"/>
              <a:ext cx="2737080" cy="31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968560" y="3068640"/>
              <a:ext cx="1457280" cy="96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2000" spc="-1" strike="noStrike">
                  <a:solidFill>
                    <a:srgbClr val="ff0000"/>
                  </a:solidFill>
                  <a:latin typeface="Bodoni MT Black"/>
                </a:rPr>
                <a:t>liberté, egalité, fraternit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7720" y="4118040"/>
              <a:ext cx="1068120" cy="52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FI" sz="1000" spc="-1" strike="noStrike">
                  <a:solidFill>
                    <a:srgbClr val="0000ff"/>
                  </a:solidFill>
                  <a:latin typeface="Engravers MT"/>
                </a:rPr>
                <a:t>ett folk i ett</a:t>
              </a:r>
              <a:r>
                <a:rPr b="0" lang="sv-FI" sz="1200" spc="-1" strike="noStrike">
                  <a:solidFill>
                    <a:srgbClr val="0000ff"/>
                  </a:solidFill>
                  <a:latin typeface="Engravers MT"/>
                </a:rPr>
                <a:t> </a:t>
              </a:r>
              <a:r>
                <a:rPr b="0" lang="sv-FI" sz="1000" spc="-1" strike="noStrike">
                  <a:solidFill>
                    <a:srgbClr val="0000ff"/>
                  </a:solidFill>
                  <a:latin typeface="Engravers MT"/>
                </a:rPr>
                <a:t>land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>
            <a:off x="2406240" y="3789360"/>
            <a:ext cx="514440" cy="719280"/>
          </a:xfrm>
          <a:prstGeom prst="line">
            <a:avLst/>
          </a:prstGeom>
          <a:ln w="381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479320" y="4221000"/>
            <a:ext cx="873000" cy="503280"/>
          </a:xfrm>
          <a:prstGeom prst="line">
            <a:avLst/>
          </a:prstGeom>
          <a:ln w="381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38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MEN: ”das tolle Jahr” (det galna året) 1848 </a:t>
            </a:r>
            <a:r>
              <a:rPr b="0" lang="sv-SE" sz="31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 kastrullen kokar över (s. 28-29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spcBef>
                <a:spcPts val="774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4400" spc="-1" strike="noStrike">
                <a:solidFill>
                  <a:srgbClr val="ffffff"/>
                </a:solidFill>
                <a:latin typeface="Times New Roman"/>
              </a:rPr>
              <a:t>s. 48 sv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5720" indent="-5857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Många uppror i Europa under 1848 (februarirevolutionen i Frankrike sprids till övriga länder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5720" indent="-5857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Nikolaj I var orolig för att upproren skulle spridas till Ryssland (Polen m.m.) + Heliga alliansen (Österrikes kejsare bad om hjälp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85720" indent="-58572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 u="sng">
                <a:solidFill>
                  <a:srgbClr val="ccccff"/>
                </a:solidFill>
                <a:uFillTx/>
                <a:latin typeface="Arial"/>
              </a:rPr>
              <a:t>Livegenskapen</a:t>
            </a: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 avskaffad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58640"/>
            <a:ext cx="8153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5720" indent="-585720">
              <a:spcBef>
                <a:spcPts val="774"/>
              </a:spcBef>
              <a:buClr>
                <a:srgbClr val="990000"/>
              </a:buClr>
              <a:buSzPct val="75000"/>
              <a:buFont typeface="Times New Roman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Från osmanska väldet frigö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Grekl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Serb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Rumän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Montenegr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49068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2600" spc="-1" strike="noStrike">
                <a:solidFill>
                  <a:srgbClr val="ffffff"/>
                </a:solidFill>
                <a:latin typeface="Arial"/>
              </a:rPr>
              <a:t>+ Bulgarien får självsty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720" indent="-58572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58572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v-FI" sz="3100" spc="-1" strike="noStrike">
                <a:solidFill>
                  <a:srgbClr val="ffffff"/>
                </a:solidFill>
                <a:latin typeface="Arial"/>
              </a:rPr>
              <a:t>A) 1861  B) 187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58640"/>
            <a:ext cx="815328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NE.se :</a:t>
            </a:r>
            <a:br>
              <a:rPr sz="3100"/>
            </a:br>
            <a:r>
              <a:rPr b="1" lang="sv-SE" sz="3100" spc="-1" strike="noStrike">
                <a:solidFill>
                  <a:srgbClr val="ffffff"/>
                </a:solidFill>
                <a:latin typeface="Arial"/>
              </a:rPr>
              <a:t>li`vegen</a:t>
            </a: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 adj. </a:t>
            </a:r>
            <a:r>
              <a:rPr b="0" i="1" lang="sv-SE" sz="3100" spc="-1" strike="noStrike">
                <a:solidFill>
                  <a:srgbClr val="ffffff"/>
                </a:solidFill>
                <a:latin typeface="Arial"/>
              </a:rPr>
              <a:t>liveget livegna </a:t>
            </a:r>
            <a:br>
              <a:rPr sz="3100"/>
            </a:b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ORDLED:</a:t>
            </a:r>
            <a:r>
              <a:rPr b="0" i="1" lang="sv-SE" sz="3100" spc="-1" strike="noStrike">
                <a:solidFill>
                  <a:srgbClr val="ffffff"/>
                </a:solidFill>
                <a:latin typeface="Arial"/>
              </a:rPr>
              <a:t> liv--egen</a:t>
            </a:r>
            <a:br>
              <a:rPr sz="3100"/>
            </a:br>
            <a:r>
              <a:rPr b="0" lang="sv-SE" sz="3100" spc="-1" strike="noStrike">
                <a:solidFill>
                  <a:srgbClr val="ffffff"/>
                </a:solidFill>
                <a:latin typeface="Arial"/>
              </a:rPr>
              <a:t>• lagligt skyldig att (hela livet) bo och arbeta på ett bestämt ställe särsk. om bönder el. arrendatorer underställda godsägare e.d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6:02:52Z</dcterms:created>
  <dc:creator>marianne.stubbe</dc:creator>
  <dc:description/>
  <dc:language>en-US</dc:language>
  <cp:lastModifiedBy>marianne.stubbe</cp:lastModifiedBy>
  <dcterms:modified xsi:type="dcterms:W3CDTF">2010-01-26T10:55:48Z</dcterms:modified>
  <cp:revision>5</cp:revision>
  <dc:subject/>
  <dc:title>IDEOLOGIERNAS TID</dc:title>
</cp:coreProperties>
</file>