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E47-833A-4F4A-B4B4-B563F341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3552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A05-A597-423E-B4AA-1FCAD842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844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B44-6C1B-498A-BD4A-910C8D15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24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368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24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368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053-359C-4AD0-A058-8AE917D5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FB88-583A-4741-ACDA-B92BC679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5C0B-5732-425F-86F9-EB268548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68C0-C728-4F94-9433-A4730BBA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560B-B075-427C-B860-0A74C442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1423-AD27-453D-B25D-5D3DFF61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160" y="445680"/>
            <a:ext cx="8148600" cy="54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2F00-85FB-4FA6-B6B8-898FCAF1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C013-C61D-4F86-85D3-343F52EC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EE71-16ED-41DE-839C-EABCBBBE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0844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0AD5-9111-424E-B137-CA035451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DB74-540B-4174-8603-57BFCEEF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160" y="393552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2BF0-2021-4AF6-8C9C-15E5D299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0844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AE6E-1651-4469-B3F4-3E124A7B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24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368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16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24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368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80BB-F2A7-4C50-9B75-D2E65059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048-2D9B-4FE2-93CE-B02EDFEC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41E-4427-42DC-8A3B-3130A995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211-8497-45D1-8B3E-4FACBB3D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445680"/>
            <a:ext cx="8148600" cy="54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EC9-30C4-46EB-A9B1-86934A58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517-47AD-428E-8760-B90E936B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844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38A-0802-47EF-ACDF-5E8B79D1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F20-3588-43F4-BFF4-3BCB1F31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18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23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56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3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67DF8-59E9-4E09-8A95-F829A64DEE90}" type="slidenum">
              <a:rPr b="0" lang="sv-FI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18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836280"/>
            <a:ext cx="677700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494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sv-FI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1160" y="6248520"/>
            <a:ext cx="28828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5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5E5A9A3-D251-49DC-8621-88DECC4CDF27}" type="slidenum">
              <a:rPr b="0" lang="sv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6640"/>
            <a:ext cx="678168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6200" spc="-1" strike="noStrike">
                <a:solidFill>
                  <a:srgbClr val="ffffff"/>
                </a:solidFill>
                <a:latin typeface="Times New Roman"/>
              </a:rPr>
              <a:t>IDEOLOGIERNAS TID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000" spc="-1" strike="noStrike">
                <a:solidFill>
                  <a:srgbClr val="ffffff"/>
                </a:solidFill>
                <a:latin typeface="Arial"/>
              </a:rPr>
              <a:t>FÖLJD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LIBERALISM: ökad rösträtt (ex. FRA &amp; SB se s. 26-31) + mera rättigheter åt folke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7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NATIONALISM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minoriteterna vaknar (kräver självständighet) </a:t>
            </a:r>
            <a:r>
              <a:rPr b="0" lang="sv-FI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 orolighe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Europakartan ritas om = </a:t>
            </a:r>
            <a:r>
              <a:rPr b="0" lang="sv-FI" sz="2600" spc="-1" strike="noStrike" u="sng">
                <a:solidFill>
                  <a:srgbClr val="ffffff"/>
                </a:solidFill>
                <a:uFillTx/>
                <a:latin typeface="Arial"/>
              </a:rPr>
              <a:t>nya länder</a:t>
            </a: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 (s. 32-37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0">
              <a:spcBef>
                <a:spcPts val="64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0">
              <a:spcBef>
                <a:spcPts val="64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REAKTIONEN: balans 1815-1848 = inga reformer (kungarna sitter på locket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spcBef>
                <a:spcPts val="774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spcBef>
                <a:spcPts val="774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39640" y="3068640"/>
            <a:ext cx="3886200" cy="3314520"/>
            <a:chOff x="539640" y="3068640"/>
            <a:chExt cx="3886200" cy="331452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539640" y="3243240"/>
              <a:ext cx="2737080" cy="31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968560" y="3068640"/>
              <a:ext cx="1457280" cy="96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2000" spc="-1" strike="noStrike">
                  <a:solidFill>
                    <a:srgbClr val="ff0000"/>
                  </a:solidFill>
                  <a:latin typeface="Bodoni MT Black"/>
                </a:rPr>
                <a:t>liberté, egalité, fraternit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7720" y="4118040"/>
              <a:ext cx="1068120" cy="52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FI" sz="1000" spc="-1" strike="noStrike">
                  <a:solidFill>
                    <a:srgbClr val="0000ff"/>
                  </a:solidFill>
                  <a:latin typeface="Engravers MT"/>
                </a:rPr>
                <a:t>ett folk i ett</a:t>
              </a:r>
              <a:r>
                <a:rPr b="0" lang="sv-FI" sz="1200" spc="-1" strike="noStrike">
                  <a:solidFill>
                    <a:srgbClr val="0000ff"/>
                  </a:solidFill>
                  <a:latin typeface="Engravers MT"/>
                </a:rPr>
                <a:t> </a:t>
              </a:r>
              <a:r>
                <a:rPr b="0" lang="sv-FI" sz="1000" spc="-1" strike="noStrike">
                  <a:solidFill>
                    <a:srgbClr val="0000ff"/>
                  </a:solidFill>
                  <a:latin typeface="Engravers MT"/>
                </a:rPr>
                <a:t>land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 flipH="1">
            <a:off x="2406240" y="3789360"/>
            <a:ext cx="514440" cy="719280"/>
          </a:xfrm>
          <a:prstGeom prst="line">
            <a:avLst/>
          </a:prstGeom>
          <a:ln w="381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479320" y="4221000"/>
            <a:ext cx="873000" cy="503280"/>
          </a:xfrm>
          <a:prstGeom prst="line">
            <a:avLst/>
          </a:prstGeom>
          <a:ln w="381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38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MEN: ”das tolle Jahr” (det galna året) 1848 </a:t>
            </a:r>
            <a:r>
              <a:rPr b="0" lang="sv-SE" sz="3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 kastrullen kokar över (s. 28-29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spcBef>
                <a:spcPts val="774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400" spc="-1" strike="noStrike">
                <a:solidFill>
                  <a:srgbClr val="ffffff"/>
                </a:solidFill>
                <a:latin typeface="Times New Roman"/>
              </a:rPr>
              <a:t>s. 48 sv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5720" indent="-58572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Många uppror i Europa under 1848 (februarirevolutionen i Frankrike sprids till övriga länder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85720" indent="-58572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Nikolaj I var orolig för att upproren skulle spridas till Ryssland (Polen m.m.) + Heliga alliansen (Österrikes kejsare bad om hjälp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85720" indent="-58572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 u="sng">
                <a:solidFill>
                  <a:srgbClr val="ccccff"/>
                </a:solidFill>
                <a:uFillTx/>
                <a:latin typeface="Arial"/>
              </a:rPr>
              <a:t>Livegenskapen</a:t>
            </a: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 avskaffad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58640"/>
            <a:ext cx="8153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5720" indent="-585720">
              <a:spcBef>
                <a:spcPts val="77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Från osmanska väldet frigö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Grekl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Serbi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Rumäni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Montenegr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+ Bulgarien får självsty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720" indent="-58572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A) 1861  B) 187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58640"/>
            <a:ext cx="8153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NE.se :</a:t>
            </a:r>
            <a:br>
              <a:rPr sz="3100"/>
            </a:b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li`vegen</a:t>
            </a: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 adj. </a:t>
            </a:r>
            <a:r>
              <a:rPr b="0" i="1" lang="sv-SE" sz="3100" spc="-1" strike="noStrike">
                <a:solidFill>
                  <a:srgbClr val="ffffff"/>
                </a:solidFill>
                <a:latin typeface="Arial"/>
              </a:rPr>
              <a:t>liveget livegna </a:t>
            </a:r>
            <a:br>
              <a:rPr sz="3100"/>
            </a:b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ORDLED:</a:t>
            </a:r>
            <a:r>
              <a:rPr b="0" i="1" lang="sv-SE" sz="3100" spc="-1" strike="noStrike">
                <a:solidFill>
                  <a:srgbClr val="ffffff"/>
                </a:solidFill>
                <a:latin typeface="Arial"/>
              </a:rPr>
              <a:t> liv--egen</a:t>
            </a:r>
            <a:br>
              <a:rPr sz="3100"/>
            </a:b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• lagligt skyldig att (hela livet) bo och arbeta på ett bestämt ställe särsk. om bönder el. arrendatorer underställda godsägare e.d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6:02:52Z</dcterms:created>
  <dc:creator>marianne.stubbe</dc:creator>
  <dc:description/>
  <dc:language>en-US</dc:language>
  <cp:lastModifiedBy>marianne.stubbe</cp:lastModifiedBy>
  <dcterms:modified xsi:type="dcterms:W3CDTF">2010-01-26T10:55:48Z</dcterms:modified>
  <cp:revision>5</cp:revision>
  <dc:subject/>
  <dc:title>IDEOLOGIERNAS TID</dc:title>
</cp:coreProperties>
</file>