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DB26-CBBA-41F0-B509-1F438751B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1486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160" y="3935520"/>
            <a:ext cx="81486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5E84-EB61-4300-9A78-B6BEC127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844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160" y="393552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8440" y="393552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4688-961A-4DAD-AFFD-121C9CF81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240" y="182844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3680" y="182844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160" y="393552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240" y="393552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3680" y="393552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3F46-2EFC-4A25-BBE3-6E3BFFC3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5347-B086-4252-8DAB-7AC1F169A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160" y="1828440"/>
            <a:ext cx="814860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D8E1-0DB4-4ADB-9842-E7685DC2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1486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B2A3-03C7-4D3B-8BEC-76DA9F5A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9762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8440" y="1828440"/>
            <a:ext cx="39762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26F1-6DB1-431F-A75A-D275AEF3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3D8C-26CC-460E-8DD2-C0875C09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160" y="445680"/>
            <a:ext cx="8148600" cy="54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10CD-A8D4-4436-800A-D0516A2E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8440" y="1828440"/>
            <a:ext cx="39762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393552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0E5A-EC55-44DD-8EAA-5176C4AD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160" y="1828440"/>
            <a:ext cx="814860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1AA8-308D-4377-8FE3-51597168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9762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844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08440" y="393552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47A2-33A2-4DA5-8656-352454C8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844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160" y="3935520"/>
            <a:ext cx="81486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1ED1-2B96-4F51-9C38-6E3C033E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1486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160" y="3935520"/>
            <a:ext cx="81486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E0FF-2621-4CE4-A8AA-6B72F9EE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0844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160" y="393552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08440" y="393552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1684-DF4B-4D19-91AB-DEB59DD96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240" y="182844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3680" y="182844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160" y="393552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240" y="393552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3680" y="393552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41BF-7A4C-40A2-8DDA-DFED1BC1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1486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9084-AF9D-4B2C-AB38-1A9FA40F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9762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8440" y="1828440"/>
            <a:ext cx="39762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8B37-BAAB-4EE1-BFC8-9EB5E0F1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5FA7-E465-41C4-855A-0F4E9F3E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445680"/>
            <a:ext cx="8148600" cy="54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808B-DD5B-4C7E-9D0C-508AE0FB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8440" y="1828440"/>
            <a:ext cx="39762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160" y="393552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9572-12E3-4F53-9D21-9AA8956E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9762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844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8440" y="393552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3246-0F8F-4FFB-B8E3-8BC59F39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844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160" y="3935520"/>
            <a:ext cx="81486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A60B-B8EC-48C4-938B-AED97819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180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160" y="1828440"/>
            <a:ext cx="81486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23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v-FI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56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v-FI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3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v-FI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81F06-ED94-41A9-812E-31FD17514BDB}" type="slidenum">
              <a:rPr b="0" lang="sv-FI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18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8960" y="836280"/>
            <a:ext cx="6777000" cy="25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494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sv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sv-FI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1160" y="6248520"/>
            <a:ext cx="28828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v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52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sv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F4EF80E-99F5-4F55-9D9A-E249F36D5039}" type="slidenum">
              <a:rPr b="0" lang="sv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6640"/>
            <a:ext cx="678168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6200" spc="-1" strike="noStrike">
                <a:solidFill>
                  <a:srgbClr val="ffffff"/>
                </a:solidFill>
                <a:latin typeface="Times New Roman"/>
              </a:rPr>
              <a:t>IDEOLOGIERNAS TID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000" spc="-1" strike="noStrike">
                <a:solidFill>
                  <a:srgbClr val="ffffff"/>
                </a:solidFill>
                <a:latin typeface="Arial"/>
              </a:rPr>
              <a:t>FÖLJD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100" spc="-1" strike="noStrike">
                <a:solidFill>
                  <a:srgbClr val="ffffff"/>
                </a:solidFill>
                <a:latin typeface="Arial"/>
              </a:rPr>
              <a:t>LIBERALISM: ökad rösträtt (ex. FRA &amp; SB se s. 26-31) + mera rättigheter åt folke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7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100" spc="-1" strike="noStrike">
                <a:solidFill>
                  <a:srgbClr val="ffffff"/>
                </a:solidFill>
                <a:latin typeface="Arial"/>
              </a:rPr>
              <a:t>NATIONALISM: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600" spc="-1" strike="noStrike">
                <a:solidFill>
                  <a:srgbClr val="ffffff"/>
                </a:solidFill>
                <a:latin typeface="Arial"/>
              </a:rPr>
              <a:t>minoriteterna vaknar (kräver självständighet) </a:t>
            </a:r>
            <a:r>
              <a:rPr b="0" lang="sv-FI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v-FI" sz="2600" spc="-1" strike="noStrike">
                <a:solidFill>
                  <a:srgbClr val="ffffff"/>
                </a:solidFill>
                <a:latin typeface="Arial"/>
              </a:rPr>
              <a:t> orolighe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600" spc="-1" strike="noStrike">
                <a:solidFill>
                  <a:srgbClr val="ffffff"/>
                </a:solidFill>
                <a:latin typeface="Arial"/>
              </a:rPr>
              <a:t>Europakartan ritas om = </a:t>
            </a:r>
            <a:r>
              <a:rPr b="0" lang="sv-FI" sz="2600" spc="-1" strike="noStrike" u="sng">
                <a:solidFill>
                  <a:srgbClr val="ffffff"/>
                </a:solidFill>
                <a:uFillTx/>
                <a:latin typeface="Arial"/>
              </a:rPr>
              <a:t>nya länder</a:t>
            </a:r>
            <a:r>
              <a:rPr b="0" lang="sv-FI" sz="2600" spc="-1" strike="noStrike">
                <a:solidFill>
                  <a:srgbClr val="ffffff"/>
                </a:solidFill>
                <a:latin typeface="Arial"/>
              </a:rPr>
              <a:t> (s. 32-37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0">
              <a:spcBef>
                <a:spcPts val="64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0">
              <a:spcBef>
                <a:spcPts val="64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100" spc="-1" strike="noStrike">
                <a:solidFill>
                  <a:srgbClr val="ffffff"/>
                </a:solidFill>
                <a:latin typeface="Arial"/>
              </a:rPr>
              <a:t>REAKTIONEN: balans 1815-1848 = inga reformer (kungarna sitter på locket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spcBef>
                <a:spcPts val="774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spcBef>
                <a:spcPts val="774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39640" y="3068640"/>
            <a:ext cx="3886200" cy="3314520"/>
            <a:chOff x="539640" y="3068640"/>
            <a:chExt cx="3886200" cy="3314520"/>
          </a:xfrm>
        </p:grpSpPr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539640" y="3243240"/>
              <a:ext cx="2737080" cy="31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2968560" y="3068640"/>
              <a:ext cx="1457280" cy="96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2000" spc="-1" strike="noStrike">
                  <a:solidFill>
                    <a:srgbClr val="ff0000"/>
                  </a:solidFill>
                  <a:latin typeface="Bodoni MT Black"/>
                </a:rPr>
                <a:t>liberté, egalité, fraternit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57720" y="4118040"/>
              <a:ext cx="1068120" cy="52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FI" sz="1000" spc="-1" strike="noStrike">
                  <a:solidFill>
                    <a:srgbClr val="0000ff"/>
                  </a:solidFill>
                  <a:latin typeface="Engravers MT"/>
                </a:rPr>
                <a:t>ett folk i ett</a:t>
              </a:r>
              <a:r>
                <a:rPr b="0" lang="sv-FI" sz="1200" spc="-1" strike="noStrike">
                  <a:solidFill>
                    <a:srgbClr val="0000ff"/>
                  </a:solidFill>
                  <a:latin typeface="Engravers MT"/>
                </a:rPr>
                <a:t> </a:t>
              </a:r>
              <a:r>
                <a:rPr b="0" lang="sv-FI" sz="1000" spc="-1" strike="noStrike">
                  <a:solidFill>
                    <a:srgbClr val="0000ff"/>
                  </a:solidFill>
                  <a:latin typeface="Engravers MT"/>
                </a:rPr>
                <a:t>land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 flipH="1">
            <a:off x="2406240" y="3789360"/>
            <a:ext cx="514440" cy="719280"/>
          </a:xfrm>
          <a:prstGeom prst="line">
            <a:avLst/>
          </a:prstGeom>
          <a:ln w="381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479320" y="4221000"/>
            <a:ext cx="873000" cy="503280"/>
          </a:xfrm>
          <a:prstGeom prst="line">
            <a:avLst/>
          </a:prstGeom>
          <a:ln w="381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38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3100" spc="-1" strike="noStrike">
                <a:solidFill>
                  <a:srgbClr val="ffffff"/>
                </a:solidFill>
                <a:latin typeface="Arial"/>
              </a:rPr>
              <a:t>MEN: ”das tolle Jahr” (det galna året) 1848 </a:t>
            </a:r>
            <a:r>
              <a:rPr b="0" lang="sv-SE" sz="31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v-SE" sz="3100" spc="-1" strike="noStrike">
                <a:solidFill>
                  <a:srgbClr val="ffffff"/>
                </a:solidFill>
                <a:latin typeface="Arial"/>
              </a:rPr>
              <a:t> kastrullen kokar över (s. 28-29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spcBef>
                <a:spcPts val="774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4400" spc="-1" strike="noStrike">
                <a:solidFill>
                  <a:srgbClr val="ffffff"/>
                </a:solidFill>
                <a:latin typeface="Times New Roman"/>
              </a:rPr>
              <a:t>s. 48 sv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5720" indent="-58572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58572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100" spc="-1" strike="noStrike">
                <a:solidFill>
                  <a:srgbClr val="ffffff"/>
                </a:solidFill>
                <a:latin typeface="Arial"/>
              </a:rPr>
              <a:t>Många uppror i Europa under 1848 (februarirevolutionen i Frankrike sprids till övriga länder)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85720" indent="-58572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58572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100" spc="-1" strike="noStrike">
                <a:solidFill>
                  <a:srgbClr val="ffffff"/>
                </a:solidFill>
                <a:latin typeface="Arial"/>
              </a:rPr>
              <a:t>Nikolaj I var orolig för att upproren skulle spridas till Ryssland (Polen m.m.) + Heliga alliansen (Österrikes kejsare bad om hjälp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85720" indent="-58572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58572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100" spc="-1" strike="noStrike" u="sng">
                <a:solidFill>
                  <a:srgbClr val="ccccff"/>
                </a:solidFill>
                <a:uFillTx/>
                <a:latin typeface="Arial"/>
              </a:rPr>
              <a:t>Livegenskapen</a:t>
            </a:r>
            <a:r>
              <a:rPr b="0" lang="sv-FI" sz="3100" spc="-1" strike="noStrike">
                <a:solidFill>
                  <a:srgbClr val="ffffff"/>
                </a:solidFill>
                <a:latin typeface="Arial"/>
              </a:rPr>
              <a:t> avskaffad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58640"/>
            <a:ext cx="81532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5720" indent="-585720">
              <a:spcBef>
                <a:spcPts val="774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58572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100" spc="-1" strike="noStrike">
                <a:solidFill>
                  <a:srgbClr val="ffffff"/>
                </a:solidFill>
                <a:latin typeface="Arial"/>
              </a:rPr>
              <a:t>Från osmanska väldet frigö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49068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58572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600" spc="-1" strike="noStrike">
                <a:solidFill>
                  <a:srgbClr val="ffffff"/>
                </a:solidFill>
                <a:latin typeface="Arial"/>
              </a:rPr>
              <a:t>Greklan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49068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58572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600" spc="-1" strike="noStrike">
                <a:solidFill>
                  <a:srgbClr val="ffffff"/>
                </a:solidFill>
                <a:latin typeface="Arial"/>
              </a:rPr>
              <a:t>Serbi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49068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58572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600" spc="-1" strike="noStrike">
                <a:solidFill>
                  <a:srgbClr val="ffffff"/>
                </a:solidFill>
                <a:latin typeface="Arial"/>
              </a:rPr>
              <a:t>Rumäni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49068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58572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600" spc="-1" strike="noStrike">
                <a:solidFill>
                  <a:srgbClr val="ffffff"/>
                </a:solidFill>
                <a:latin typeface="Arial"/>
              </a:rPr>
              <a:t>Montenegr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49068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58572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600" spc="-1" strike="noStrike">
                <a:solidFill>
                  <a:srgbClr val="ffffff"/>
                </a:solidFill>
                <a:latin typeface="Arial"/>
              </a:rPr>
              <a:t>+ Bulgarien får självsty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85720" indent="-58572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58572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100" spc="-1" strike="noStrike">
                <a:solidFill>
                  <a:srgbClr val="ffffff"/>
                </a:solidFill>
                <a:latin typeface="Arial"/>
              </a:rPr>
              <a:t>A) 1861  B) 1871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58640"/>
            <a:ext cx="81532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v-SE" sz="3100" spc="-1" strike="noStrike">
                <a:solidFill>
                  <a:srgbClr val="ffffff"/>
                </a:solidFill>
                <a:latin typeface="Arial"/>
              </a:rPr>
              <a:t>NE.se :</a:t>
            </a:r>
            <a:br>
              <a:rPr sz="3100"/>
            </a:br>
            <a:r>
              <a:rPr b="1" lang="sv-SE" sz="3100" spc="-1" strike="noStrike">
                <a:solidFill>
                  <a:srgbClr val="ffffff"/>
                </a:solidFill>
                <a:latin typeface="Arial"/>
              </a:rPr>
              <a:t>li`vegen</a:t>
            </a:r>
            <a:r>
              <a:rPr b="0" lang="sv-SE" sz="3100" spc="-1" strike="noStrike">
                <a:solidFill>
                  <a:srgbClr val="ffffff"/>
                </a:solidFill>
                <a:latin typeface="Arial"/>
              </a:rPr>
              <a:t> adj. </a:t>
            </a:r>
            <a:r>
              <a:rPr b="0" i="1" lang="sv-SE" sz="3100" spc="-1" strike="noStrike">
                <a:solidFill>
                  <a:srgbClr val="ffffff"/>
                </a:solidFill>
                <a:latin typeface="Arial"/>
              </a:rPr>
              <a:t>liveget livegna </a:t>
            </a:r>
            <a:br>
              <a:rPr sz="3100"/>
            </a:br>
            <a:r>
              <a:rPr b="0" lang="sv-SE" sz="3100" spc="-1" strike="noStrike">
                <a:solidFill>
                  <a:srgbClr val="ffffff"/>
                </a:solidFill>
                <a:latin typeface="Arial"/>
              </a:rPr>
              <a:t>ORDLED:</a:t>
            </a:r>
            <a:r>
              <a:rPr b="0" i="1" lang="sv-SE" sz="3100" spc="-1" strike="noStrike">
                <a:solidFill>
                  <a:srgbClr val="ffffff"/>
                </a:solidFill>
                <a:latin typeface="Arial"/>
              </a:rPr>
              <a:t> liv--egen</a:t>
            </a:r>
            <a:br>
              <a:rPr sz="3100"/>
            </a:br>
            <a:r>
              <a:rPr b="0" lang="sv-SE" sz="3100" spc="-1" strike="noStrike">
                <a:solidFill>
                  <a:srgbClr val="ffffff"/>
                </a:solidFill>
                <a:latin typeface="Arial"/>
              </a:rPr>
              <a:t>• lagligt skyldig att (hela livet) bo och arbeta på ett bestämt ställe särsk. om bönder el. arrendatorer underställda godsägare e.d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06:02:52Z</dcterms:created>
  <dc:creator>marianne.stubbe</dc:creator>
  <dc:description/>
  <dc:language>en-US</dc:language>
  <cp:lastModifiedBy>marianne.stubbe</cp:lastModifiedBy>
  <dcterms:modified xsi:type="dcterms:W3CDTF">2010-01-26T10:55:48Z</dcterms:modified>
  <cp:revision>5</cp:revision>
  <dc:subject/>
  <dc:title>IDEOLOGIERNAS TID</dc:title>
</cp:coreProperties>
</file>