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07D-EEB5-4FAE-AB1E-CDDDFFC2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3BC-370C-4BD1-977F-07252E3C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04D-778A-4021-A492-A99079BB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24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368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24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368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F86-D270-4482-A5B0-4CB9BCAB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95FA-9E61-4916-81B3-80BC912C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02AA-A084-401A-BBEF-1285183A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10D5-BE23-477E-9DC2-24AB0A2C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A18A-21A2-4B63-BFCF-2890C472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E7B5-9469-4FBD-B56A-5C88FC92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160" y="445680"/>
            <a:ext cx="8148600" cy="54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5CFF-AA2F-4B7D-85B7-986FA2EA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2775-842F-41D9-BC30-0BACBA7A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F84-967D-49AD-AF6D-407144A7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8BB0-8146-482F-A8DF-141C129C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5CE1-DCBA-458C-9EEA-3EC35981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190B-3BF7-478A-AD15-45B9DF49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FBBF-F887-4921-8311-6530DC3F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24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368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16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24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368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FA86-A984-4108-A974-C55A5719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C3B-0BAA-4DAF-AAC0-A6B1E4F2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968-AD70-4316-AAC1-C61E40E0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AF1-344E-404A-A472-6014BF5C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445680"/>
            <a:ext cx="8148600" cy="54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148-26DA-4E05-BADE-7EE75A2C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5AC-4926-4E6D-A243-839E5310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8A6-06E3-41CF-A76E-F6B51C02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365-4A9C-4C08-806B-02FDF9E0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18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23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56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719C7-8E39-455A-AC9E-4B3D54DB6DDF}" type="slidenum">
              <a:rPr b="0" lang="sv-FI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18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836280"/>
            <a:ext cx="67770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494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sv-FI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1160" y="6248520"/>
            <a:ext cx="28828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5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C3871F-324F-4AAF-9BE4-9FD304E2BE0B}" type="slidenum">
              <a:rPr b="0" lang="sv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664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6200" spc="-1" strike="noStrike">
                <a:solidFill>
                  <a:srgbClr val="ffffff"/>
                </a:solidFill>
                <a:latin typeface="Times New Roman"/>
              </a:rPr>
              <a:t>IDEOLOGIERNAS TID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000" spc="-1" strike="noStrike">
                <a:solidFill>
                  <a:srgbClr val="ffffff"/>
                </a:solidFill>
                <a:latin typeface="Arial"/>
              </a:rPr>
              <a:t>FÖLJ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LIBERALISM: ökad rösträtt (ex. FRA &amp; SB se s. 26-31) + mera rättigheter åt folke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7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NATIONALISM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minoriteterna vaknar (kräver självständighet) </a:t>
            </a:r>
            <a:r>
              <a:rPr b="0" lang="sv-FI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 orolighe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Europakartan ritas om = </a:t>
            </a:r>
            <a:r>
              <a:rPr b="0" lang="sv-FI" sz="2600" spc="-1" strike="noStrike" u="sng">
                <a:solidFill>
                  <a:srgbClr val="ffffff"/>
                </a:solidFill>
                <a:uFillTx/>
                <a:latin typeface="Arial"/>
              </a:rPr>
              <a:t>nya länder</a:t>
            </a: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 (s. 32-37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0">
              <a:spcBef>
                <a:spcPts val="64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0">
              <a:spcBef>
                <a:spcPts val="64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REAKTIONEN: balans 1815-1848 = inga reformer (kungarna sitter på locket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74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74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39640" y="3068640"/>
            <a:ext cx="3886200" cy="3314520"/>
            <a:chOff x="539640" y="3068640"/>
            <a:chExt cx="3886200" cy="331452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539640" y="3243240"/>
              <a:ext cx="2737080" cy="31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968560" y="3068640"/>
              <a:ext cx="1457280" cy="96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2000" spc="-1" strike="noStrike">
                  <a:solidFill>
                    <a:srgbClr val="ff0000"/>
                  </a:solidFill>
                  <a:latin typeface="Bodoni MT Black"/>
                </a:rPr>
                <a:t>liberté, egalité, fraternit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7720" y="4118040"/>
              <a:ext cx="106812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FI" sz="1000" spc="-1" strike="noStrike">
                  <a:solidFill>
                    <a:srgbClr val="0000ff"/>
                  </a:solidFill>
                  <a:latin typeface="Engravers MT"/>
                </a:rPr>
                <a:t>ett folk i ett</a:t>
              </a:r>
              <a:r>
                <a:rPr b="0" lang="sv-FI" sz="1200" spc="-1" strike="noStrike">
                  <a:solidFill>
                    <a:srgbClr val="0000ff"/>
                  </a:solidFill>
                  <a:latin typeface="Engravers MT"/>
                </a:rPr>
                <a:t> </a:t>
              </a:r>
              <a:r>
                <a:rPr b="0" lang="sv-FI" sz="1000" spc="-1" strike="noStrike">
                  <a:solidFill>
                    <a:srgbClr val="0000ff"/>
                  </a:solidFill>
                  <a:latin typeface="Engravers MT"/>
                </a:rPr>
                <a:t>lan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>
            <a:off x="2406240" y="3789360"/>
            <a:ext cx="514440" cy="719280"/>
          </a:xfrm>
          <a:prstGeom prst="line">
            <a:avLst/>
          </a:prstGeom>
          <a:ln w="381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479320" y="4221000"/>
            <a:ext cx="873000" cy="503280"/>
          </a:xfrm>
          <a:prstGeom prst="line">
            <a:avLst/>
          </a:prstGeom>
          <a:ln w="381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38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MEN: ”das tolle Jahr” (det galna året) 1848 </a:t>
            </a:r>
            <a:r>
              <a:rPr b="0" lang="sv-SE" sz="3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 kastrullen kokar över (s. 28-29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74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400" spc="-1" strike="noStrike">
                <a:solidFill>
                  <a:srgbClr val="ffffff"/>
                </a:solidFill>
                <a:latin typeface="Times New Roman"/>
              </a:rPr>
              <a:t>s. 48 sv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5720" indent="-5857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Många uppror i Europa under 1848 (februarirevolutionen i Frankrike sprids till övriga länder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5720" indent="-5857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Nikolaj I var orolig för att upproren skulle spridas till Ryssland (Polen m.m.) + Heliga alliansen (Österrikes kejsare bad om hjälp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5720" indent="-5857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 u="sng">
                <a:solidFill>
                  <a:srgbClr val="ccccff"/>
                </a:solidFill>
                <a:uFillTx/>
                <a:latin typeface="Arial"/>
              </a:rPr>
              <a:t>Livegenskapen</a:t>
            </a: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 avskaffad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58640"/>
            <a:ext cx="8153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5720" indent="-585720"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Från osmanska väldet frigö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Grekl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Serb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Rumän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Montenegr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+ Bulgarien får självsty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720" indent="-58572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A) 1861  B) 187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58640"/>
            <a:ext cx="8153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NE.se :</a:t>
            </a:r>
            <a:br>
              <a:rPr sz="3100"/>
            </a:b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li`vegen</a:t>
            </a: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 adj. </a:t>
            </a:r>
            <a:r>
              <a:rPr b="0" i="1" lang="sv-SE" sz="3100" spc="-1" strike="noStrike">
                <a:solidFill>
                  <a:srgbClr val="ffffff"/>
                </a:solidFill>
                <a:latin typeface="Arial"/>
              </a:rPr>
              <a:t>liveget livegna </a:t>
            </a:r>
            <a:br>
              <a:rPr sz="3100"/>
            </a:b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ORDLED:</a:t>
            </a:r>
            <a:r>
              <a:rPr b="0" i="1" lang="sv-SE" sz="3100" spc="-1" strike="noStrike">
                <a:solidFill>
                  <a:srgbClr val="ffffff"/>
                </a:solidFill>
                <a:latin typeface="Arial"/>
              </a:rPr>
              <a:t> liv--egen</a:t>
            </a:r>
            <a:br>
              <a:rPr sz="3100"/>
            </a:b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• lagligt skyldig att (hela livet) bo och arbeta på ett bestämt ställe särsk. om bönder el. arrendatorer underställda godsägare e.d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6:02:52Z</dcterms:created>
  <dc:creator>marianne.stubbe</dc:creator>
  <dc:description/>
  <dc:language>en-US</dc:language>
  <cp:lastModifiedBy>marianne.stubbe</cp:lastModifiedBy>
  <dcterms:modified xsi:type="dcterms:W3CDTF">2010-01-26T10:55:48Z</dcterms:modified>
  <cp:revision>5</cp:revision>
  <dc:subject/>
  <dc:title>IDEOLOGIERNAS TID</dc:title>
</cp:coreProperties>
</file>