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20A-9A0A-4ABE-B846-E0E5A342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FD0-B656-427F-BAF3-C0B4748C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E2E-1661-4870-95E3-35670675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C0E-5A9D-46E1-9FD6-5F223AA0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8FB-0B66-4176-8A2B-361B61A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7C86-F437-4A82-888B-57052C1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59C-6419-41AF-924D-90C162ED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CF69-CDFE-43EA-9E43-36259E4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2A52-7A91-4316-96CA-9E4BB3C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F65-046D-42F0-9A42-23AA0BA8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BB5-86E9-4F93-BD35-6EE8010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91F-3BD1-4990-8E17-F1FF8AE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381B-078D-4520-87B0-3B4841F7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DE99-BDF4-4BAA-99BF-4DF4A5F6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E7C0-7DF7-4DDE-AD27-182988FD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EF09-650B-407A-A452-45DD8AB5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03BD-8A70-4081-8F70-687C30E0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626-6A14-46BC-BE64-6DD43D3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DF5-4763-4114-9FD7-8DC04C28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B230-2E0C-4D7D-B59C-774BD03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5B4-6119-4CB9-BBB9-D6AD8FB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7B7-34B1-4219-A2BF-7CC1F48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EA5-8D49-4FEE-B706-0E431A1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405-E900-45EF-B09B-D8BAEA6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D7E01-CD02-4888-81B6-1E23F63849ED}" type="slidenum">
              <a:rPr b="0" lang="sv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B5FBFA-61EE-4922-BA27-0FB170240CB5}" type="slidenum">
              <a:rPr b="0" lang="sv-FI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6666ff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66"/>
                </a:solidFill>
                <a:latin typeface="Impact"/>
              </a:rPr>
              <a:t>FÖRÄNDRINGARNAS TID I FINLAN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800" spc="-1" strike="noStrike">
                <a:solidFill>
                  <a:srgbClr val="000066"/>
                </a:solidFill>
                <a:latin typeface="Verdana"/>
              </a:rPr>
              <a:t>boken s. 74-9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9360" y="223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BAKGRUND: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349360"/>
            <a:ext cx="8001000" cy="367056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senaste lantdagen 1809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inga nya lagar på över 50 å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68440" indent="-568440">
              <a:lnSpc>
                <a:spcPct val="90000"/>
              </a:lnSpc>
              <a:spcBef>
                <a:spcPts val="7500"/>
              </a:spcBef>
              <a:buClr>
                <a:srgbClr val="000080"/>
              </a:buClr>
              <a:buSzPct val="65000"/>
              <a:buFont typeface="Wingdings" charset="2"/>
              <a:buChar char="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ny storfurste (tsar) = Alexander II (liberal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LANTDAGEN sammankallas (1863)</a:t>
            </a:r>
            <a:br>
              <a:rPr sz="3000"/>
            </a:br>
            <a:r>
              <a:rPr b="0" lang="sv-FI" sz="3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sv-FI" sz="3000" spc="-1" strike="noStrike">
                <a:solidFill>
                  <a:srgbClr val="000066"/>
                </a:solidFill>
                <a:latin typeface="Verdana"/>
              </a:rPr>
              <a:t> nya lagar &amp; reform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000" y="2673360"/>
            <a:ext cx="179280" cy="1827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79280" y="2176560"/>
            <a:ext cx="5976720" cy="448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434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>
                <a:solidFill>
                  <a:srgbClr val="000066"/>
                </a:solidFill>
                <a:latin typeface="Verdana"/>
              </a:rPr>
              <a:t>REFORMER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solidFill>
            <a:srgbClr val="c0c0c0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SPRÅKFÖRORDNINGEN = finskan jämställs med svensk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LANTDAGSORDNINGEN (LO 1869) = lantdagen samlas regelbund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KOMMUNALT SJÄLVSTYRE= nya uppgifter: folkskola, vägunderhåll, sjuk- och fattigvå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ARMÉ &amp; ALLMÄN VÄRNPLIK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403560" indent="-403560">
              <a:lnSpc>
                <a:spcPct val="90000"/>
              </a:lnSpc>
              <a:spcBef>
                <a:spcPts val="1950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568440"/>
                <a:tab algn="l" pos="673200"/>
                <a:tab algn="l" pos="1122480"/>
                <a:tab algn="l" pos="1571760"/>
                <a:tab algn="l" pos="2021040"/>
                <a:tab algn="l" pos="2470320"/>
                <a:tab algn="l" pos="2919240"/>
                <a:tab algn="l" pos="3368520"/>
                <a:tab algn="l" pos="3817800"/>
                <a:tab algn="l" pos="4267080"/>
                <a:tab algn="l" pos="4716360"/>
                <a:tab algn="l" pos="5165640"/>
                <a:tab algn="l" pos="5614920"/>
                <a:tab algn="l" pos="6064200"/>
                <a:tab algn="l" pos="6513480"/>
                <a:tab algn="l" pos="6962760"/>
                <a:tab algn="l" pos="7412040"/>
                <a:tab algn="l" pos="7861320"/>
                <a:tab algn="l" pos="8310600"/>
                <a:tab algn="l" pos="8759880"/>
                <a:tab algn="l" pos="9209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000" spc="-1" strike="noStrike">
                <a:solidFill>
                  <a:srgbClr val="000080"/>
                </a:solidFill>
                <a:latin typeface="Verdana"/>
              </a:rPr>
              <a:t>EGET MYNT = mark &amp; penni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FI" sz="3800" spc="-1" strike="noStrike" u="sng">
                <a:solidFill>
                  <a:srgbClr val="000066"/>
                </a:solidFill>
                <a:uFillTx/>
                <a:latin typeface="Verdana"/>
              </a:rPr>
              <a:t>Folkskola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800000"/>
            <a:ext cx="8820360" cy="4771800"/>
          </a:xfrm>
          <a:prstGeom prst="rect">
            <a:avLst/>
          </a:prstGeom>
          <a:solidFill>
            <a:srgbClr val="c0c0c0">
              <a:alpha val="5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312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folkskola </a:t>
            </a: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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flera går i skola &amp; lär sig läsa</a:t>
            </a:r>
            <a:br>
              <a:rPr sz="3000"/>
            </a:br>
            <a:r>
              <a:rPr b="0" lang="sv-SE" sz="3000" spc="-1" strike="noStrike">
                <a:solidFill>
                  <a:srgbClr val="000080"/>
                </a:solidFill>
                <a:latin typeface="Wingdings"/>
                <a:ea typeface="Wingdings"/>
              </a:rPr>
              <a:t></a:t>
            </a: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 allmänbildning &amp; kunskapstörs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000" spc="-1" strike="noStrike">
                <a:solidFill>
                  <a:srgbClr val="000080"/>
                </a:solidFill>
                <a:latin typeface="Verdana"/>
              </a:rPr>
              <a:t>nya tidningar grundas → mera kunskap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Vikingen &amp; Nya Pressen (svek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H:fors dagblad (liberal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Uusi Suometar &amp; Päivälehti (fennomanerna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431640" indent="-215640"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2600" spc="-1" strike="noStrike">
                <a:solidFill>
                  <a:srgbClr val="000080"/>
                </a:solidFill>
                <a:latin typeface="Verdana"/>
              </a:rPr>
              <a:t>Borgåbladet, VBL (lokaltidningar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6:34Z</dcterms:created>
  <dc:creator>marianne.stubbe</dc:creator>
  <dc:description/>
  <dc:language>en-US</dc:language>
  <cp:lastModifiedBy>marianne.stubbe</cp:lastModifiedBy>
  <dcterms:modified xsi:type="dcterms:W3CDTF">2010-02-09T10:22:53Z</dcterms:modified>
  <cp:revision>6</cp:revision>
  <dc:subject/>
  <dc:title>FÖRÄNDRINGARNAS TID I FINLAND</dc:title>
</cp:coreProperties>
</file>