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0688-336B-4D3D-932A-DB6149B1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6256-9174-4CE3-898E-649F737B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2CC5-6F32-4C52-A93F-2AD35215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CD0B-C086-4A89-82BA-19981C082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9885-25C0-48BD-BBEF-9B2C00B4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328C-4668-4DF6-B626-F35BAAB2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1914-9DD3-4450-B267-4D11517B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BD31-AA95-43C9-9206-818CFF39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E573-5840-43A0-9F2C-A54BCC68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7446-D6DD-47D6-A0F2-498A9D4B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B4BB-0ED0-47BA-A758-4853AD4C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00B8-533E-4DBA-A8A0-0C22C29D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E04B-68BB-4115-AE74-49E65006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93EB-9FE3-4449-9DC0-93D0CD9D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C745-28E8-4634-83DA-DBB2E383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61B3-A3FF-4AC7-8BAC-05EE7567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3113-9F58-45AA-B88C-9206D0CC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FD00-D676-41D3-81B1-E365417B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3AF4-6EED-4EB6-98D1-AFD71FE4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1389-6199-479F-8C4C-233809B1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D045-2770-4296-B8EB-3F1FD740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432E-BF50-4C32-9871-BC1E8E16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2834-F244-413F-869E-949CA00A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B72C-92A6-4EF2-A8C3-DD018A68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6666ff"/>
          </a:solidFill>
          <a:ln w="936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v-FI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v-FI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v-FI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5E902-A00A-4293-8F8E-12C3FECC30BD}" type="slidenum">
              <a:rPr b="0" lang="sv-FI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7691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sv-FI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sv-FI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v-FI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sv-FI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524C3B6-494D-477B-9779-D4011CEBA30B}" type="slidenum">
              <a:rPr b="0" lang="sv-FI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6666ff"/>
          </a:solidFill>
          <a:ln w="936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4000" spc="-1" strike="noStrike">
                <a:solidFill>
                  <a:srgbClr val="000066"/>
                </a:solidFill>
                <a:latin typeface="Impact"/>
              </a:rPr>
              <a:t>FÖRÄNDRINGARNAS TID I FINLAN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800" spc="-1" strike="noStrike">
                <a:solidFill>
                  <a:srgbClr val="000066"/>
                </a:solidFill>
                <a:latin typeface="Verdana"/>
              </a:rPr>
              <a:t>boken s. 74-9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39360" y="223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v-FI" sz="3800" spc="-1" strike="noStrike">
                <a:solidFill>
                  <a:srgbClr val="000066"/>
                </a:solidFill>
                <a:latin typeface="Verdana"/>
              </a:rPr>
              <a:t>BAKGRUND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2349360"/>
            <a:ext cx="8001000" cy="3670560"/>
          </a:xfrm>
          <a:prstGeom prst="rect">
            <a:avLst/>
          </a:prstGeom>
          <a:solidFill>
            <a:srgbClr val="c0c0c0">
              <a:alpha val="5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-568440">
              <a:lnSpc>
                <a:spcPct val="90000"/>
              </a:lnSpc>
              <a:spcBef>
                <a:spcPts val="751"/>
              </a:spcBef>
              <a:buClr>
                <a:srgbClr val="000080"/>
              </a:buClr>
              <a:buSzPct val="65000"/>
              <a:buFont typeface="Wingdings" charset="2"/>
              <a:buChar char=""/>
              <a:tabLst>
                <a:tab algn="l" pos="568440"/>
                <a:tab algn="l" pos="67320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000" spc="-1" strike="noStrike">
                <a:solidFill>
                  <a:srgbClr val="000066"/>
                </a:solidFill>
                <a:latin typeface="Verdana"/>
              </a:rPr>
              <a:t>senaste lantdagen 1809</a:t>
            </a:r>
            <a:br>
              <a:rPr sz="3000"/>
            </a:br>
            <a:r>
              <a:rPr b="0" lang="sv-FI" sz="30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sv-FI" sz="3000" spc="-1" strike="noStrike">
                <a:solidFill>
                  <a:srgbClr val="000066"/>
                </a:solidFill>
                <a:latin typeface="Verdana"/>
              </a:rPr>
              <a:t> inga nya lagar på över 50 å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90000"/>
              </a:lnSpc>
              <a:spcBef>
                <a:spcPts val="7500"/>
              </a:spcBef>
              <a:buClr>
                <a:srgbClr val="000080"/>
              </a:buClr>
              <a:buSzPct val="65000"/>
              <a:buFont typeface="Wingdings" charset="2"/>
              <a:buChar char=""/>
              <a:tabLst>
                <a:tab algn="l" pos="568440"/>
                <a:tab algn="l" pos="67320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000" spc="-1" strike="noStrike">
                <a:solidFill>
                  <a:srgbClr val="000066"/>
                </a:solidFill>
                <a:latin typeface="Verdana"/>
              </a:rPr>
              <a:t>ny storfurste (tsar) = Alexander II (liberal)</a:t>
            </a:r>
            <a:br>
              <a:rPr sz="3000"/>
            </a:br>
            <a:r>
              <a:rPr b="0" lang="sv-FI" sz="30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sv-FI" sz="3000" spc="-1" strike="noStrike">
                <a:solidFill>
                  <a:srgbClr val="000066"/>
                </a:solidFill>
                <a:latin typeface="Verdana"/>
              </a:rPr>
              <a:t> LANTDAGEN sammankallas (1863)</a:t>
            </a:r>
            <a:br>
              <a:rPr sz="3000"/>
            </a:br>
            <a:r>
              <a:rPr b="0" lang="sv-FI" sz="3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sv-FI" sz="3000" spc="-1" strike="noStrike">
                <a:solidFill>
                  <a:srgbClr val="000066"/>
                </a:solidFill>
                <a:latin typeface="Verdana"/>
              </a:rPr>
              <a:t> nya lagar &amp; reform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40000" y="2673360"/>
            <a:ext cx="179280" cy="1827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179280" y="2176560"/>
            <a:ext cx="5976720" cy="4483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443480" y="0"/>
            <a:ext cx="4916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v-FI" sz="3800" spc="-1" strike="noStrike">
                <a:solidFill>
                  <a:srgbClr val="000066"/>
                </a:solidFill>
                <a:latin typeface="Verdana"/>
              </a:rPr>
              <a:t>REFORMER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solidFill>
            <a:srgbClr val="c0c0c0">
              <a:alpha val="6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403560" indent="-403560">
              <a:lnSpc>
                <a:spcPct val="90000"/>
              </a:lnSpc>
              <a:spcBef>
                <a:spcPts val="1950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568440"/>
                <a:tab algn="l" pos="67320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4000" spc="-1" strike="noStrike">
                <a:solidFill>
                  <a:srgbClr val="000080"/>
                </a:solidFill>
                <a:latin typeface="Verdana"/>
              </a:rPr>
              <a:t>SPRÅKFÖRORDNINGEN = finskan jämställs med svenska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03560" indent="-403560">
              <a:lnSpc>
                <a:spcPct val="90000"/>
              </a:lnSpc>
              <a:spcBef>
                <a:spcPts val="1950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568440"/>
                <a:tab algn="l" pos="67320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4000" spc="-1" strike="noStrike">
                <a:solidFill>
                  <a:srgbClr val="000080"/>
                </a:solidFill>
                <a:latin typeface="Verdana"/>
              </a:rPr>
              <a:t>LANTDAGSORDNINGEN (LO 1869) = lantdagen samlas regelbunde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03560" indent="-403560">
              <a:lnSpc>
                <a:spcPct val="90000"/>
              </a:lnSpc>
              <a:spcBef>
                <a:spcPts val="1950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568440"/>
                <a:tab algn="l" pos="67320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4000" spc="-1" strike="noStrike">
                <a:solidFill>
                  <a:srgbClr val="000080"/>
                </a:solidFill>
                <a:latin typeface="Verdana"/>
              </a:rPr>
              <a:t>KOMMUNALT SJÄLVSTYRE= nya uppgifter: folkskola, vägunderhåll, sjuk- och fattigvår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03560" indent="-403560">
              <a:lnSpc>
                <a:spcPct val="90000"/>
              </a:lnSpc>
              <a:spcBef>
                <a:spcPts val="1950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568440"/>
                <a:tab algn="l" pos="67320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4000" spc="-1" strike="noStrike">
                <a:solidFill>
                  <a:srgbClr val="000080"/>
                </a:solidFill>
                <a:latin typeface="Verdana"/>
              </a:rPr>
              <a:t>ARMÉ &amp; ALLMÄN VÄRNPLIK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03560" indent="-403560">
              <a:lnSpc>
                <a:spcPct val="90000"/>
              </a:lnSpc>
              <a:spcBef>
                <a:spcPts val="1950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568440"/>
                <a:tab algn="l" pos="67320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4000" spc="-1" strike="noStrike">
                <a:solidFill>
                  <a:srgbClr val="000080"/>
                </a:solidFill>
                <a:latin typeface="Verdana"/>
              </a:rPr>
              <a:t>EGET MYNT = mark &amp; penni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v-FI" sz="3800" spc="-1" strike="noStrike" u="sng">
                <a:solidFill>
                  <a:srgbClr val="000066"/>
                </a:solidFill>
                <a:uFillTx/>
                <a:latin typeface="Verdana"/>
              </a:rPr>
              <a:t>Folkskolan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920" y="1800000"/>
            <a:ext cx="8820360" cy="4771800"/>
          </a:xfrm>
          <a:prstGeom prst="rect">
            <a:avLst/>
          </a:prstGeom>
          <a:solidFill>
            <a:srgbClr val="c0c0c0">
              <a:alpha val="5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312"/>
              </a:spcBef>
              <a:buClr>
                <a:srgbClr val="000080"/>
              </a:buClr>
              <a:buSzPct val="45000"/>
              <a:buFont typeface="Wingdings" charset="2"/>
              <a:buChar char="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3000" spc="-1" strike="noStrike">
                <a:solidFill>
                  <a:srgbClr val="000080"/>
                </a:solidFill>
                <a:latin typeface="Verdana"/>
              </a:rPr>
              <a:t>folkskola </a:t>
            </a:r>
            <a:r>
              <a:rPr b="0" lang="sv-SE" sz="3000" spc="-1" strike="noStrike">
                <a:solidFill>
                  <a:srgbClr val="000080"/>
                </a:solidFill>
                <a:latin typeface="Wingdings"/>
                <a:ea typeface="Wingdings"/>
              </a:rPr>
              <a:t></a:t>
            </a:r>
            <a:r>
              <a:rPr b="0" lang="sv-SE" sz="3000" spc="-1" strike="noStrike">
                <a:solidFill>
                  <a:srgbClr val="000080"/>
                </a:solidFill>
                <a:latin typeface="Verdana"/>
              </a:rPr>
              <a:t> flera går i skola &amp; lär sig läsa</a:t>
            </a:r>
            <a:br>
              <a:rPr sz="3000"/>
            </a:br>
            <a:r>
              <a:rPr b="0" lang="sv-SE" sz="3000" spc="-1" strike="noStrike">
                <a:solidFill>
                  <a:srgbClr val="000080"/>
                </a:solidFill>
                <a:latin typeface="Wingdings"/>
                <a:ea typeface="Wingdings"/>
              </a:rPr>
              <a:t></a:t>
            </a:r>
            <a:r>
              <a:rPr b="0" lang="sv-SE" sz="3000" spc="-1" strike="noStrike">
                <a:solidFill>
                  <a:srgbClr val="000080"/>
                </a:solidFill>
                <a:latin typeface="Verdana"/>
              </a:rPr>
              <a:t> allmänbildning &amp; kunskapstörs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000080"/>
              </a:buClr>
              <a:buSzPct val="45000"/>
              <a:buFont typeface="Wingdings" charset="2"/>
              <a:buChar char="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3000" spc="-1" strike="noStrike">
                <a:solidFill>
                  <a:srgbClr val="000080"/>
                </a:solidFill>
                <a:latin typeface="Verdana"/>
              </a:rPr>
              <a:t>nya tidningar grundas → mera kunskap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431640" indent="-215640"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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2600" spc="-1" strike="noStrike">
                <a:solidFill>
                  <a:srgbClr val="000080"/>
                </a:solidFill>
                <a:latin typeface="Verdana"/>
              </a:rPr>
              <a:t>Vikingen &amp; Nya Pressen (svekomanerna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431640" indent="-215640"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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2600" spc="-1" strike="noStrike">
                <a:solidFill>
                  <a:srgbClr val="000080"/>
                </a:solidFill>
                <a:latin typeface="Verdana"/>
              </a:rPr>
              <a:t>H:fors dagblad (liberal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431640" indent="-215640"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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2600" spc="-1" strike="noStrike">
                <a:solidFill>
                  <a:srgbClr val="000080"/>
                </a:solidFill>
                <a:latin typeface="Verdana"/>
              </a:rPr>
              <a:t>Uusi Suometar &amp; Päivälehti (fennomanerna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431640" indent="-215640"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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2600" spc="-1" strike="noStrike">
                <a:solidFill>
                  <a:srgbClr val="000080"/>
                </a:solidFill>
                <a:latin typeface="Verdana"/>
              </a:rPr>
              <a:t>Borgåbladet, VBL (lokaltidningar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9:26:34Z</dcterms:created>
  <dc:creator>marianne.stubbe</dc:creator>
  <dc:description/>
  <dc:language>en-US</dc:language>
  <cp:lastModifiedBy>marianne.stubbe</cp:lastModifiedBy>
  <dcterms:modified xsi:type="dcterms:W3CDTF">2010-02-09T10:22:53Z</dcterms:modified>
  <cp:revision>6</cp:revision>
  <dc:subject/>
  <dc:title>FÖRÄNDRINGARNAS TID I FINLAND</dc:title>
</cp:coreProperties>
</file>