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BCD-770A-40FB-92A6-4488D353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197-2FE7-4CAB-B3F0-5A68EEB2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E69-3120-40C8-8A3E-149949E6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8D7-BF75-466C-9A23-CAF20A8B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C1C0-D657-4076-8AF9-4E43089D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71A7-ABD6-4383-8D16-AE39ECD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84BF-1B83-4EF2-AA8D-4FEC74D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D30-36E0-463B-8BD2-7E26642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0CF-76E9-417A-9989-CA0964D3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DB4-1A40-49FB-9118-EC02FE70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D072-9ED7-4B03-8509-9170D7B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CD7-DFF1-47BD-B16F-0333B01B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BC2-C761-4650-9D57-D2D678A0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C11C-D51A-42C6-A404-7AF4A73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1985-56D5-4CFA-806C-B6BF699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307A-6E24-446D-A6BF-A66AA52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497A-1449-4B0F-B0AA-99BB341D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4B4-1E4B-429F-AE05-699A5FBD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BBA-DC5B-40AD-AB58-329A2EA5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36C-5F5E-4F36-8232-F9D03DD1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653-114E-4FEA-AF7D-B090CB5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523-78DA-4FE0-874B-4913CD3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C9F-6901-4A36-823E-AF3FAB5E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011-66E4-49DB-8EBB-51DD949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C9A8-4261-4390-BC52-0B633C2FF435}" type="slidenum"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3524C6-1343-4179-8A0E-5245D2B4FE79}" type="slidenum">
              <a:rPr b="0" lang="sv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66"/>
                </a:solidFill>
                <a:latin typeface="Impact"/>
              </a:rPr>
              <a:t>FÖRÄNDRINGARNAS TID I FINLA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800" spc="-1" strike="noStrike">
                <a:solidFill>
                  <a:srgbClr val="000066"/>
                </a:solidFill>
                <a:latin typeface="Verdana"/>
              </a:rPr>
              <a:t>boken s. 74-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9360" y="223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BAKGRUN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367056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senaste lantdagen 1809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inga nya lagar på över 50 å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90000"/>
              </a:lnSpc>
              <a:spcBef>
                <a:spcPts val="7500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ny storfurste (tsar) = Alexander II (liberal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LANTDAGEN sammankallas (1863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nya lagar &amp; reform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000" y="2673360"/>
            <a:ext cx="179280" cy="1827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79280" y="2176560"/>
            <a:ext cx="5976720" cy="448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434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REFORM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SPRÅKFÖRORDNINGEN = finskan jämställs med svensk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LANTDAGSORDNINGEN (LO 1869) = lantdagen samlas regelbund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KOMMUNALT SJÄLVSTYRE= nya uppgifter: folkskola, vägunderhåll, sjuk- och fattigvå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ARMÉ &amp; ALLMÄN VÄRNPLIK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EGET MYNT = mark &amp; penn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 u="sng">
                <a:solidFill>
                  <a:srgbClr val="000066"/>
                </a:solidFill>
                <a:uFillTx/>
                <a:latin typeface="Verdana"/>
              </a:rPr>
              <a:t>Folkskola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8820360" cy="47718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12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folkskola </a:t>
            </a: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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flera går i skola &amp; lär sig läsa</a:t>
            </a:r>
            <a:br>
              <a:rPr sz="3000"/>
            </a:b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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allmänbildning &amp; kunskapstör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nya tidningar grundas → mera kunska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Vikingen &amp; Nya Pressen (svek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H:fors dagblad (liber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Uusi Suometar &amp; Päivälehti (fenn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Borgåbladet, VBL (lokaltidningar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6:34Z</dcterms:created>
  <dc:creator>marianne.stubbe</dc:creator>
  <dc:description/>
  <dc:language>en-US</dc:language>
  <cp:lastModifiedBy>marianne.stubbe</cp:lastModifiedBy>
  <dcterms:modified xsi:type="dcterms:W3CDTF">2010-02-09T10:22:53Z</dcterms:modified>
  <cp:revision>6</cp:revision>
  <dc:subject/>
  <dc:title>FÖRÄNDRINGARNAS TID I FINLAND</dc:title>
</cp:coreProperties>
</file>