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768-EEA2-4DBB-A177-4FF7E768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9D6-8DDA-407E-BB0F-D0E22524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85C-D027-4985-A9CE-5A38FAD5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B1E-A8B5-4EC3-BE0A-A7DD8662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06F-2CD2-4267-9222-835621B7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1CC-07B0-4719-8DC8-4BD59740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9907-575E-49BC-A409-CB3DDE6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5A79-CF28-4C57-B637-20718713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4447-B3F1-477E-A323-9EA45E23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1BC-F6A5-4FC8-97BE-7562B760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00FB-5325-4AF9-915A-821B959B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17D-ADB6-44B8-8CC4-3BA202FF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8FC7-A983-48CC-A314-EBFA132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BF0E-C869-4C49-AC48-59B7182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DF27-BC40-486C-9484-2B7792C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CC80-CECC-420B-90AD-6029AC99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B465-FB65-4A12-8208-55485C29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FE5-B2CB-4884-9D86-638E6154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EB6-0DFE-41AF-BB64-B839FDD1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877-4319-4471-82FB-0BA8DA3C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E2A-9B06-48ED-A42E-2E14EEC4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A08-74BB-492C-8C4D-A9F8E0BB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B53-5B6D-41E1-AC02-DC49F19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887-15CC-44D3-8453-27A2A75D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7129E-C299-4E67-A47E-0B69B03AE54E}" type="slidenum"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768025-8786-4BB8-87E8-56D772C26761}" type="slidenum">
              <a:rPr b="0" lang="sv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66"/>
                </a:solidFill>
                <a:latin typeface="Impact"/>
              </a:rPr>
              <a:t>FÖRÄNDRINGARNAS TID I FINLA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800" spc="-1" strike="noStrike">
                <a:solidFill>
                  <a:srgbClr val="000066"/>
                </a:solidFill>
                <a:latin typeface="Verdana"/>
              </a:rPr>
              <a:t>boken s. 74-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9360" y="223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BAKGRUN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367056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senaste lantdagen 1809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inga nya lagar på över 50 å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90000"/>
              </a:lnSpc>
              <a:spcBef>
                <a:spcPts val="7500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ny storfurste (tsar) = Alexander II (liberal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LANTDAGEN sammankallas (1863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nya lagar &amp; reform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000" y="2673360"/>
            <a:ext cx="179280" cy="1827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79280" y="2176560"/>
            <a:ext cx="5976720" cy="448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434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REFORM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SPRÅKFÖRORDNINGEN = finskan jämställs med svensk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LANTDAGSORDNINGEN (LO 1869) = lantdagen samlas regelbund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KOMMUNALT SJÄLVSTYRE= nya uppgifter: folkskola, vägunderhåll, sjuk- och fattigvå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ARMÉ &amp; ALLMÄN VÄRNPLIK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EGET MYNT = mark &amp; penn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 u="sng">
                <a:solidFill>
                  <a:srgbClr val="000066"/>
                </a:solidFill>
                <a:uFillTx/>
                <a:latin typeface="Verdana"/>
              </a:rPr>
              <a:t>Folkskola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8820360" cy="47718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12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folkskola </a:t>
            </a: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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flera går i skola &amp; lär sig läsa</a:t>
            </a:r>
            <a:br>
              <a:rPr sz="3000"/>
            </a:b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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allmänbildning &amp; kunskapstör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nya tidningar grundas → mera kunska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Vikingen &amp; Nya Pressen (svek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H:fors dagblad (liber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Uusi Suometar &amp; Päivälehti (fenn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Borgåbladet, VBL (lokaltidningar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6:34Z</dcterms:created>
  <dc:creator>marianne.stubbe</dc:creator>
  <dc:description/>
  <dc:language>en-US</dc:language>
  <cp:lastModifiedBy>marianne.stubbe</cp:lastModifiedBy>
  <dcterms:modified xsi:type="dcterms:W3CDTF">2010-02-09T10:22:53Z</dcterms:modified>
  <cp:revision>6</cp:revision>
  <dc:subject/>
  <dc:title>FÖRÄNDRINGARNAS TID I FINLAND</dc:title>
</cp:coreProperties>
</file>